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146-78C2-4FB0-84B3-9CF130F4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086-ABDD-4A7E-9FFF-DC62A774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FFD01-8112-47D1-96E2-BFE6FA4A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F9395-D60C-4EF6-B23D-93BF35ED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1A6B8-CA58-4945-837D-9C62DCF1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2C41F-99D9-4E5E-B568-10239827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72053-A271-4ECB-8A46-71B05C06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90B6D-5886-46BC-A666-61153CE6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BCAA3-E300-4DD5-B310-EE9A639B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0BC67-DE27-41FA-87F0-BA77E647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7BBFB-90AB-4A59-8F01-EFAAF66A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4C982-BBC2-4AD9-BB43-EC4439A9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71A-1946-496D-8991-B8CA37C9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A9D57-17DE-44B8-B1B2-387A37BE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5869B-E3B4-473B-89E1-238F07D6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F3287-7A73-4DBB-A198-92445ACD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84720-2373-4274-9403-90036852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72999-2BF7-414B-AF9E-28568485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208CF-6A3A-43FF-A1DD-ED353606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63977-96EB-4599-BEFD-B31F500E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3CAC6-781D-4CC7-B4C8-9710AAB5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42B92-18C7-40B3-8561-7DDACDF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F4E2C-234F-49FD-9351-83B2356C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762-6967-4026-A2C9-C2050D05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2E33A-3225-4C97-8EDF-1219FDF6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11DFD-14C1-4F1D-843C-2B8E9621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51ACD-6921-4AA7-A04C-717EA393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FAE40-6B67-4EBF-AB12-2228E26D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5E604-D0AA-4E4F-B16F-70C77CBA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81FF2-96A7-4183-8203-7E892350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EC262-8479-4B6B-9B56-6EBE1756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C5FEE-3F4F-4D9D-9BC7-08C7175B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274D1-B1B3-4E00-8C3E-BC3DF0F5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8F720-5806-47DA-9FCE-F65BEE4A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5FD4-AAEC-417F-83D7-2EFDBEF0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4E8E9-96D6-4F8B-8805-D02DCE7F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E7FB1-B72E-46E1-90B9-5263E18B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D79C1-882F-4D9C-B128-95400065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2F6C6-CB54-4438-BE97-AED44491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103F8-9EB5-4700-BF1C-B8ACECB9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20EAE-1B61-4C62-912A-1460709A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2C1AA-CBEC-4554-AA7F-816AB770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BC77A-0C91-4760-9BF0-62865128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210E1-3822-4792-BF74-DECCBD94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1554A-F8F4-4747-9C69-B5C343C0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2F5F-0583-40E0-AC2C-94FCBF20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138FE-A816-4C96-84D3-5E7DB14F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06760-912B-4035-BA18-38B0282B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AB01B-BE7D-463E-9D1D-25F4647A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57313-34F1-4480-AB61-0CC1237D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71D3A-B00A-456B-A9BE-10FA0926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D8840-88AB-451A-B75E-6F86AB79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AF686-C154-4F3D-BBE8-AFE7877B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5EC8F-13D4-40C2-B18A-6B38FD6A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1FB65-9CC2-47DB-84D1-101C3924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DB522-C449-47CE-99C9-734496EE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1B2E-2A00-41B1-9892-D4D3B2DB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4CC0D-D88A-4E48-BE1C-364C9A22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E2DDE-F10F-4E79-812A-CE0B5C81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37413-0EAC-4F91-9686-B76CF0B2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118E1-0D46-4835-A3AC-2714CC44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50F88-BF90-4F98-99F2-4842B549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18D00-63B9-4C0D-A9E8-E56BE3E1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C7A5D-A8F8-424C-AF03-25CC7746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B26BB-765F-4F38-8BE5-F9F81C9B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C3E40-B769-4112-9D94-831426CF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41D1A-23F6-4A96-86D3-A409D282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82B0-E0B5-422C-BBE4-945084FD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DC289-A2BC-4CEC-94DB-1E485AE8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6E4B3-E5DB-419E-BC5D-79F7534A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4C671-5E11-48F0-B8E4-C024664B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AF79F-95A6-4F69-AA87-FDF1B505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3669F-AD09-4DA6-89B2-CD998956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2CE44-CE4C-441C-AAFF-07D51F30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C8D48-94A2-4613-BF9A-BCDCB221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05EA9-4BC5-44D7-AEB4-AF33116D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F4E36-DFAB-4CFC-939B-798DA16F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08BC1-71D2-481D-9778-FD27155E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408F-7ED6-4841-960D-AF7F5B54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9594A-416E-418F-87C8-CEED9699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3FB6CD-9476-4F1C-B5A9-600E8CFC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70925-EE0C-40BD-BB47-0B576C69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1F5C0-04A8-43CB-96AF-7499FF15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62D15-A8A5-48A0-B5FA-510426DB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9F2F2-283F-43FB-8EFB-C7F344E7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4E234-86D5-4628-96E6-CFADAC1A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C4C5B-D7F8-45EA-8E54-8EF09BF3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5E34B-BF7D-4943-B10F-E7D8BF03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D06BF-E79D-4460-B564-58F82308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EF6-F4D9-4CEF-843B-A1EF5396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7810B-1B1F-4A1A-9358-AE535CDE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58BD2-6C53-4FB9-8516-A70CDBD3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08330F-6289-41AA-8EA2-307791BB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C5722-7B02-43D8-9DB7-46D9832D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59E287-CF4C-4FCA-8CD3-5F8B11DB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6EBEAE-ADFB-4477-B752-4F32F3E4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0D5ED-6150-4836-8C24-427683FA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789A5A-4B3F-4BF6-864D-866BDF83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D613D-09D2-45BD-8A2F-36821B9D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36C60-1A48-40DC-B30B-72C9D299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3894-1B8A-4990-B830-EC5DC59B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D8D92-EB7E-425C-800B-BF2095CD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A00F29-57A9-4A29-9F2F-0A808682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2BDDC-BE63-4FFD-923F-342AEDEB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491684-915F-4586-861E-36DD879B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35DB5-7D84-4A68-9854-CB74B5BF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E320F2-DEBD-4A80-9990-28C5E249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4FA15A-3438-482B-88A9-797E9090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4F5A9-7C93-4708-9B4E-0A031113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675182-F62B-4FBD-B541-7B46B546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A91C4-4849-43DE-9104-A3EC9CC9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462-FC0B-4A0D-902A-A8C692B8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F320-BC31-41C4-96BC-7D839CD5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1A5FBD-91C2-4A2B-AB9A-FB24B7D3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F1530-9521-447B-811B-043953F3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9EDCB-D2DC-45D5-BA4B-C7F4DDE2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052DC-C4A1-4B31-9A95-D1687EE7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0BA1E-F7B4-47BF-9CDB-5383C54C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A0840-2592-4BB3-8823-36A6B495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2FBE9-2647-4DA0-A225-5CF1CE3F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92DC0-6BA4-4BF4-BF6D-44AE6718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5ECEA-D5AC-4792-BC78-CB9991F1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CA013A-747F-4808-83D4-E0E3DCA6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D819-879D-4950-BE53-7877E4A4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FF2B3-9DEF-4F4E-B955-BD90F9D1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BA373-920C-485E-9992-41976A3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C0B339-42DA-4A6B-A53B-0329377F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6BAAE-5EF8-4B19-BC86-885420DA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4F6245-EEDD-4B38-BD28-5D5FD2AD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CE49A-C30E-439E-943E-F01F52D0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65992-D7D9-444A-B922-ACE77A8D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D0DBF-8CAF-4D8B-B1E7-AEC9E190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579E62-A2B4-486E-A233-6387ECB0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F51F2F-C215-4D62-AF39-086536DF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2C7B-CC1F-4237-8EFA-267396B5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38FD0-3494-4BE4-A2BD-C8597665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9E3E91-AA7E-4F56-891B-206B6A68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6E03AC-461E-4426-BB93-C507A646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914D7B-2981-4D95-85A5-1C3DD536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E9DED-DAD9-420E-B255-0F282FCA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08A7A9-85A7-4241-B1F3-B1424B1C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B14DD-8F4B-4E6A-A49D-346428D1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2F563-E857-4630-97A7-AE140610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22B97C-78D0-4622-86E8-A5654928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07B46-CA9C-40A6-B631-FC6044E3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320F-255A-4297-A9F2-B000A9D6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69027A-5B65-4C8E-85EB-8B980314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EB78B-E509-476C-B5BD-8C4E8880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909C57-1CB5-447B-9479-3A0DEF60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1EE006-7AF2-4AB7-9DAF-08B14770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48B1C5-3E19-4010-AEE6-105A5BEA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4F945C-F478-4D0C-B2D7-C3312F0D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D1F77B-C6F6-469A-99FA-D6750BF7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B2671-CA5C-4E77-A652-59F9C7EA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6F5906-7DFD-412A-98FB-9B7B2233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833922-3AA5-49D6-A99B-FD2F34EB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C433-1A09-4ECE-BD63-1D2345D2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CE2EE-9F61-4560-801E-32958BA8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FC57EC-3D7A-46CB-88BA-BAB68E46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E3A1E1-237C-42D3-929B-7C829B89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F1E71A-65D5-4D9C-A099-B5B24117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E9E8F5-9971-4BB3-A639-094561CC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780F2E-0ED7-49AB-AF70-2292EED0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4B6884-9EA1-4CC6-9D55-7FFF0175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E1FCA1-AC40-499B-8CCC-3C54A81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3CE2A9-48F2-4795-81FE-522143CE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CBB7F0-D789-4D8A-A93F-59C67F9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1DB9-DB31-494B-9C97-23DAEB21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C7F442-5CB6-4315-B0A4-4F81B194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F2355-477F-40B1-91BB-D3486B1E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A60479-09D7-4FFF-AE51-62D7C838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5C49-6E04-4371-B0FC-0927846E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5768-9334-47F0-B1E0-2F71DDF8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350F-6B87-4195-9FE5-0FF5A6B1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2DD8-037A-4B02-9149-03FCF95C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075-5583-466A-87A1-DE7EEA20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355D-BD62-448E-B67E-D7AC0FC9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C9AE1-4E10-4773-9B93-53979A03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0080-B159-41A9-A32D-F33026CC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EA3E8-B3CD-48F8-B4FB-C2035FB9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F633-E525-4A4D-B537-5243A289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1EFF-3A10-498F-B313-5BE6BE46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C7C2-F397-45E1-8CEB-ACC7AA8C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92D9-F449-441E-BC77-B0E0BB1E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460F-E1C7-4847-93A5-45B93927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B593-9E76-4243-8D7C-DC94EC47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117-DFD8-465E-8BA5-16819191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5D53D-17D2-495C-918F-213B95E2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1B12F-6DAD-471F-9B32-7F6BCB7B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D5C4E-5339-4B17-BAB1-D12F9C87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44C6-EC17-4CB9-B3D0-00D1A240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CEB47-0B6E-4A9E-8A3E-22D6A145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7400A-46E5-457E-A978-6DFFDA05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8CD75-188D-4CD3-B5AA-1F82B6DF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D5F24-A075-4CC9-81D2-176D54AA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46FD-DE09-47D2-B173-215D5071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4DE2-7603-4789-B00B-376D8CBB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6BE-997C-4305-BD54-E8E05259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457D0-85B5-486E-90AC-D7905B83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C163-4F0E-4A00-B4E9-0C628D5F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89557-21FA-4092-BEE0-AEDB2BB4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029C7-6575-4E2E-9A6A-70902953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FD9BC-888A-4CD5-AA3F-E501CD53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C774E-974E-4228-AE6C-1984CB34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0B397-C86E-468A-92C2-68A060B8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5599D-2BEE-45A5-B93F-C29316DE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C04B9-89A3-4C8B-B0E7-22425958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A938-B4BB-4C84-B780-AD086249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1AF-EDF7-41E6-AF1F-B8E3CFD5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FD2FA-08F9-4CF1-9321-C23E10B9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9A9A8-1FBA-4DA3-AC83-81E5DCEF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F6DDD-A270-4CDD-95DC-D6222CBE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CDA00-1FE9-4A11-A7A1-DF261F5D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A8AC-B1DD-4AC2-99E4-26DE4151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B8B33-16D0-4D4D-8D6E-6FC09E3A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5252C-1CB0-48F8-874F-CA1ACF16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51354-51B9-4D66-8DAE-EBF2A2F7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23BF5-DD91-4F2D-9154-188C5F8B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F1D70-0558-4F67-B989-62A3EA8B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12E-058D-4DA5-AA04-26908904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AF197-4604-46B8-BA95-4D962110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06B41-EE2A-44B0-91CA-1DB2595A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B7937-CFAB-4386-BD5B-E3DA42F8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8C46C-8E7A-4406-8BDD-B3718D57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7EAF-7806-4C56-9AF2-6021CEF8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69B0B-5708-401C-A273-E46D75E5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B6CB8-44C2-4362-BE4C-7DC98934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CF219-D34C-4C3C-AD95-B62FA0EA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08AF1-E120-4BCF-B7D0-6B64D837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448EE-78DA-4ADD-AEBA-40E0A738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450-652D-4871-AC12-E6C0099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75B33-B81E-48D1-A2D6-7F054251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3C89B-42FE-4243-93F1-2A5A7471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3BE72-87E9-45FC-86FB-038E96D4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35BE9-94F2-4C75-8A80-7DB2D6EF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9F1A3-343A-4DBD-B0C2-68F91FF0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095E-C10C-4E3A-864C-6E655993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0F182-DC06-4E69-93C0-AD90B4D2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4B427-9F20-4914-AD2C-528B94A7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2698E-B5D7-4E60-AD5D-5E0D3CF2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58DDA-2ADC-4DAB-96BB-54B537CC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CB8-6910-46E3-9467-DE16A411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F3C7B-65C5-484C-88D6-5737DC96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B6431-4597-4954-968E-D6D61882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F479D-FF10-489B-8A77-0EE50B3A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D40D7-5603-40B3-AA9A-589CAB6E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E3BA2-3495-431F-9923-3D22077F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056CF-0039-4E43-9552-D7DA8A41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F7020-2559-4DDC-851A-1B277BB1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ED3C0-CE36-414F-983A-D521621D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02F2A-AA8A-4CE2-A885-05EF7065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97B18-F2D7-4721-A6F3-39D697FA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7D5D-5321-4D39-A616-87DDA6EF5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E356-191D-41D1-9B9C-15D40E42DB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09CB-E786-4A92-8FEF-C057F7D816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C7C0-D263-47E9-BF08-71FC2DD654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270E-080D-42EB-8D7E-6147DC31C7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C872-0D8C-4D11-9947-B9B45BC1CE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04F8-1000-412E-AE6C-642EB52F2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42A6-BDD0-4FC0-A63B-A564FEFDE2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B57B-B13E-4ACC-A6C2-2B4F062898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4FC3-8CDD-4989-9B19-CA86A2574E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CA52-6AD6-4F6E-9038-323F975A7D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AD96-0CFF-4E74-A81D-EDA7C5F11F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32C8-54C2-4371-8DEE-DE82F15281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2B27-6850-47AB-9EC3-2FE164D6AC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019E-C205-4805-B939-3900F0E928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0EDD-3E8D-45EA-9281-3F0B50EA41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4205-7C1D-4AB5-9F46-DF1C41C97A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0E97-3767-4BB4-B65A-FC6E660B03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E6A3-C3BD-4C42-A0B9-5C29D4AF65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2012-4C73-42F3-B37D-FEC2038833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801E-8027-46A0-9C73-C64243BE0E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3085-4BE8-49D6-81D0-33E6F9405C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B0E7-AF5F-4686-BD6C-62F101A031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4159-E250-466B-A648-57675A22CB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AC68-700D-40AD-87AB-026B8573E8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A43B-2F19-434B-861A-DA88107187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02CF-1B92-4526-A109-99E1AC461A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469F-C6B0-45CF-B48D-4D405B494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E190-B115-4698-9156-E143C5FA2C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1513-C833-4D4C-994B-BA6CA1B88E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F04C-2852-409F-8AC7-1EBEEA447D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C895-C6EB-45D8-8BB7-41D2959528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C61A-81CD-431A-A30D-45186EA5E1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522D-5BD6-4102-AB58-2CB973E6DD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1E86-3941-47DC-8D79-7F5D66BE7E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1653-D502-495D-BB66-8B8A827FC7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317D-AAD9-49BD-8DE6-B43EF88603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3516-75A6-45CE-BEE6-302F86C0D7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EF2F-8D61-4E42-8C78-85907C10D3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A1B1-7574-49AA-B373-99FCB3AD29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57120" y="3413160"/>
            <a:ext cx="84297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714240" y="928800"/>
            <a:ext cx="7791480" cy="5695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908000" y="1766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908000" y="2990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908000" y="42861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908000" y="551664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71680" y="1000080"/>
            <a:ext cx="8010360" cy="5315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2268360" y="5589720"/>
            <a:ext cx="151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6300720" y="5516640"/>
            <a:ext cx="11509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029440" cy="57531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3"/>
          <a:stretch/>
        </p:blipFill>
        <p:spPr>
          <a:xfrm>
            <a:off x="1619280" y="3573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4"/>
          <a:stretch/>
        </p:blipFill>
        <p:spPr>
          <a:xfrm>
            <a:off x="1763640" y="486900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452520" y="905040"/>
            <a:ext cx="8238960" cy="5810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"/>
          <a:stretch/>
        </p:blipFill>
        <p:spPr>
          <a:xfrm>
            <a:off x="1763640" y="9079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3"/>
          <a:stretch/>
        </p:blipFill>
        <p:spPr>
          <a:xfrm>
            <a:off x="1835280" y="350028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4"/>
          <a:stretch/>
        </p:blipFill>
        <p:spPr>
          <a:xfrm>
            <a:off x="7524720" y="4457880"/>
            <a:ext cx="93492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5"/>
          <a:stretch/>
        </p:blipFill>
        <p:spPr>
          <a:xfrm>
            <a:off x="1763640" y="51814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6"/>
          <a:stretch/>
        </p:blipFill>
        <p:spPr>
          <a:xfrm>
            <a:off x="7451640" y="6138720"/>
            <a:ext cx="936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267760" cy="55818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2"/>
          <a:stretch/>
        </p:blipFill>
        <p:spPr>
          <a:xfrm>
            <a:off x="1619280" y="1052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3"/>
          <a:stretch/>
        </p:blipFill>
        <p:spPr>
          <a:xfrm>
            <a:off x="7164360" y="2085840"/>
            <a:ext cx="93672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4"/>
          <a:stretch/>
        </p:blipFill>
        <p:spPr>
          <a:xfrm>
            <a:off x="1619280" y="2781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5"/>
          <a:stretch/>
        </p:blipFill>
        <p:spPr>
          <a:xfrm>
            <a:off x="5559480" y="3871800"/>
            <a:ext cx="28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6"/>
          <a:stretch/>
        </p:blipFill>
        <p:spPr>
          <a:xfrm>
            <a:off x="2411280" y="6021360"/>
            <a:ext cx="93672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7"/>
          <a:stretch/>
        </p:blipFill>
        <p:spPr>
          <a:xfrm>
            <a:off x="4211640" y="6021360"/>
            <a:ext cx="936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766800" y="1104840"/>
            <a:ext cx="7610400" cy="4648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2"/>
          <a:stretch/>
        </p:blipFill>
        <p:spPr>
          <a:xfrm>
            <a:off x="1692360" y="2506680"/>
            <a:ext cx="93492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3"/>
          <a:stretch/>
        </p:blipFill>
        <p:spPr>
          <a:xfrm>
            <a:off x="3152880" y="2503440"/>
            <a:ext cx="93492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4"/>
          <a:stretch/>
        </p:blipFill>
        <p:spPr>
          <a:xfrm>
            <a:off x="4643280" y="2492280"/>
            <a:ext cx="93672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5"/>
          <a:stretch/>
        </p:blipFill>
        <p:spPr>
          <a:xfrm>
            <a:off x="6156360" y="2492280"/>
            <a:ext cx="93672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6"/>
          <a:stretch/>
        </p:blipFill>
        <p:spPr>
          <a:xfrm>
            <a:off x="1547640" y="5208480"/>
            <a:ext cx="5688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439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Picture 1" descr=""/>
          <p:cNvPicPr/>
          <p:nvPr/>
        </p:nvPicPr>
        <p:blipFill>
          <a:blip r:embed="rId1"/>
          <a:stretch/>
        </p:blipFill>
        <p:spPr>
          <a:xfrm>
            <a:off x="814320" y="1052640"/>
            <a:ext cx="7515360" cy="5305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"/>
          <p:cNvPicPr/>
          <p:nvPr/>
        </p:nvPicPr>
        <p:blipFill>
          <a:blip r:embed="rId2"/>
          <a:stretch/>
        </p:blipFill>
        <p:spPr>
          <a:xfrm>
            <a:off x="1332000" y="2349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3"/>
          <a:stretch/>
        </p:blipFill>
        <p:spPr>
          <a:xfrm>
            <a:off x="1403280" y="30621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4"/>
          <a:stretch/>
        </p:blipFill>
        <p:spPr>
          <a:xfrm>
            <a:off x="1403280" y="4430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5"/>
          <a:stretch/>
        </p:blipFill>
        <p:spPr>
          <a:xfrm>
            <a:off x="1403280" y="50846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3" descr=""/>
          <p:cNvPicPr/>
          <p:nvPr/>
        </p:nvPicPr>
        <p:blipFill>
          <a:blip r:embed="rId6"/>
          <a:stretch/>
        </p:blipFill>
        <p:spPr>
          <a:xfrm>
            <a:off x="1403280" y="579924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0:32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